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8B8-8265-4ABC-AE0C-F8525311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EB5-E440-4391-A757-ED143070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FC547-0800-4FB0-819D-8B23D4FE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EBF2C-ADA6-4F9B-8952-E9F3042A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A10B-2B7E-4B42-93C0-18E7A439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036A7-712B-4E20-999F-270DF67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BE6C5-4712-4BBA-ACD3-AEB36DDC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F70B0-AF5B-43BA-91E3-6CBC6C23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71EF5-A059-435E-986B-A3465F49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732A2-A21E-4D81-A95B-458302B7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9E1CB-D800-4E98-BC87-592D4033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78132-F3AD-47AD-8732-D6B4A076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0E6-646E-41DD-890D-D45BAE5E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27323-57AF-4970-A3A7-1AC07A3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9FDA7-9CD8-42E6-ACEF-8F529AC5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E9876-C1EF-4855-A0CD-D9B4C472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964D3-019A-4385-B04D-A066A50C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A46A-08C8-4017-8BCF-A071CC58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309D4-3F5A-4392-993B-B307C0C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F295E-02F9-4D1F-AEBF-296A38A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D2C83-FBDF-4FE0-8551-B23265B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381E3-E6EA-4008-90D7-E8FD32FB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1A4E5-08E3-48E5-AF85-06D7B703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7DB-C98F-4598-810A-B021AFE7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EBDD0-E879-4D21-8523-DE10FB6B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8EA3F-2BB0-495C-8315-B1BFCBD3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6F5DC-B6F4-491A-B500-B0852FD0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7638B-0944-4F48-8B21-7A8320D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A9755-C97D-4768-95E3-5D0F8FF8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489BF-97CB-4687-8CDA-2612277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DD257-900B-46E8-888D-41CA623C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D5F4-0162-4FBB-9D88-23D9B31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DE8F2-613B-472B-AD1B-B254E0A4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58C20-7D18-4981-A10D-1588A77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2262-4A3C-4BEA-B766-D660E110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B0D1A-5669-4E8E-8668-725DC2E7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BE867-8C0F-474C-B3BE-18819AA9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CDCA7-0DB3-4F0E-8661-FCCFEEBE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EC58C-0576-48D5-B71F-66A7F6F1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9D764-5F03-4C49-8213-A7277D46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02CF0-91E7-410C-A776-903DDD2B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9608F-FA80-43C6-88A1-96366FA4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31AF7-4A6A-4E99-AB3D-33C4603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BBA63-C8D2-4CF9-967E-1DC2658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64D11-0049-4A24-9024-6461CCC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B511-938A-4A64-872D-EAB2C3E4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8BD29-48F3-4DE8-9175-AF5F00B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1C245-DB6E-455A-9EDF-68D515C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1402F-0D5A-4D71-9526-C3828DBB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89B06-B732-4C91-8FB5-27EAA3F5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F7564-13D1-4EFF-AABE-678919C4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F022A-E733-402B-9066-F82C7C64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60C2B-444A-44F3-A00A-1C68C85F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BF706-F3B8-4CA6-9832-BAC9EDF5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04282-5DF6-4CD1-8D87-54DE6E23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6F543-2056-481B-A081-4341F0B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2F3D-222C-4A2B-8A61-DC1DC518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CFB98-C228-4346-B4A2-0BFB2353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45B32-3430-4BB8-944C-F6FAC1A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41074-2512-46E9-BF40-1FEC5332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57774-E484-4700-9C8D-A1A0CA2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09687-2FBB-4E55-AD28-EEA22543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7BA8E-B8FC-4683-89C4-94DAD6DA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30149-FEEF-4460-A86F-8C9488E7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40081-362C-4D91-A381-220356BD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1E0EA4-2CEB-4894-97C4-3F62581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68AE6-3B55-4D28-BAA4-8AC809B9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A23B-098A-4062-8012-41FC0DF9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8A297-3ABD-4797-A79E-0C278D96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3A368-927C-4A7B-ACB5-B584CB06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D7411-7E9C-473A-9C31-78F99BA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EFC7B-AE27-40B1-9ABB-8D4B15C7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F884D-FCD4-40C9-9F09-E7C3EC0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645EC-8B71-4BC7-A5CB-5116CE6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63837-7A8E-4507-A4F9-BC3A5BF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0D9A3-1245-42B6-A83B-A1734DC5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9E088-90D4-4433-8700-496E86DE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4745C-8DD2-4B17-8EB3-DD3D7E86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B006-19E8-4D29-8792-AB75B14F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79C03-4954-40A1-82F1-A852074E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BDDEB-92F6-43A0-A371-54262B5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51629-3EBD-40F1-A67E-711AEBBD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F52B5-196C-44A5-8BA7-96B498CC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3D394-4294-43B2-8C15-26DFCBC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81F21-B1E3-431C-A1C3-4AFB09F3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A14B0-3868-49D4-86DC-8FE3C88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91C49-3CBE-42EB-BB68-F4D70312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5AD39-D018-47B3-B2F0-81E35BC6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4FA08-CC48-437C-8669-D1469BEE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05D7-C2A2-42D5-9A99-FA33762B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B11DD-FC81-4807-8A44-65150DA6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686C6-9B31-4B58-9378-B3A46632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B7118-C6E6-4D1A-8957-E9A6755E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81D65-AFBA-46E9-A7C4-AE4FDFBC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804FB-B311-49A8-A512-B14DDE3F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48E34-D73B-4E42-B67F-7AD2B282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F826B-C772-484A-87A8-8555254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12ADF-F8D6-4A15-84C2-1AC2C6FE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0729C-C1CA-4F3E-8DE7-049B692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42F56F-79B7-490E-A998-F509B06C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C67B-2E16-4260-8CA0-D381E00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1C602-7AE2-4E2C-A3F0-F3FBC030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3773B-F5EA-4C3B-ACD0-751CB0CA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44D3E-9846-4674-A368-FE8087AC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0B26C-D779-4F86-B5D4-8328AD7B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0BB01-9E89-4B37-841A-44062455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07B83-C040-476F-B31D-1DF3B109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94F82-387E-47F0-A014-CB9C91A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5CC8E-1B32-4540-B876-585BB3A3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10CAE-E8E1-487A-A10A-31782F84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6C76A-9918-4B4C-860A-F5746302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DE6-9B6B-40B6-BC9E-CFA33389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C4C4-2A9B-46ED-9757-91AAA4DF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814CEF-8C29-4B5C-8EEE-3B3AAF2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8E725-8BB3-4DE2-B041-4EC2B44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0EA8B-A703-4A60-AFC7-C1E8D8CD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3F5EE-F297-4295-931E-D932B9B5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E0A37-F05D-4866-B5D8-C173833D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24489-B1E6-4895-A553-B68E6F6B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A520A-1357-482B-AC6A-D0D9BCD7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7F471-4304-4A72-A6C4-7808AB72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B78F4-B0F7-43D6-8910-547B7AD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93349-F79E-42D2-8FFC-5F7D68A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6355-3C70-41B1-B130-1317A87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0F683-5CF3-4364-99B3-96C6FD6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7DA3A-52C8-47E1-AD66-608FF7B2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10631-9288-44A5-BBFD-1BC2AF1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4D50B-545E-4382-AD5F-C627A63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B480C-F0EB-4D05-80C1-274C8DC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7F018-1C7C-47FB-81A1-0FF69675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83637-24F6-4054-BFD6-C25C2B96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8CF4F-6B9C-4B8A-93BD-81621024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DC2ED-BCF8-449E-B6AF-79232E3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0A555-3D36-46FF-82FC-08406CD7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072B-DEA1-4F05-B03A-A1E44FA1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DE117-5D6F-434F-8ED6-C1E8D44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833FE-1238-4858-B873-5396F7A3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DE913-2E5D-43E3-B10E-57DCF42F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DCC00-8DE7-4956-A83C-B62CA74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5C62C-B6C7-46FD-9345-0237583F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50861-3389-4647-8A38-679BA0AC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83ABA-E8B1-4B5A-9B75-6A7A2B2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F7016D-7696-4721-A2D8-273313E6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8ED548-29DF-4592-8160-3622FBCA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132FA-5572-43DC-846C-36394DA3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9C78-CAF3-4CC0-92CE-F22C560E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6578D-8A6F-4CE2-A672-56B91226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F127F-8CC0-43D9-BE6B-97B5FBD4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53213-572B-418B-BDDC-4F273D45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AFFFE-0D6E-4EF7-8916-EB74CDC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905CD-5F1E-44DA-A2AE-08689FFA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A58F1-30BB-479F-9043-38D2C00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254E9-688C-47C2-BDAE-2B30413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AD594-BC88-4C0D-914A-C35FACE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7E086-F041-447D-B6DF-A23398E8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D8765-0327-4E64-B508-35A95407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B510-8CA7-4E16-A126-76C45017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B952AC-3954-48CD-86FE-3E8EE877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34D8E-8C77-459D-ACC6-96FD06B8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68F12-5054-420C-86AC-2C533ED2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49672-B329-4263-919B-985EF438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E9B360-19E9-4BB3-A4B2-B363FD89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69AAF-4359-48F9-A1B3-298DDF85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F10798-59FD-4D5B-A07E-DC111450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519418-266C-478A-A705-DC8AE3FA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EDE0B-908F-4E14-B707-7717671E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83DA5-E991-483A-96F1-CF64E8CC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7BA0-E018-45C7-A1F7-265FC5DE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575799-C7D4-4BFB-B6AB-81BFF249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B6D0E4-8EEA-43C1-A2BE-ED93CD5B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AB92E-E2BB-43C6-9C32-922E18A4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3ADA-B73F-41B7-A03D-4E899D7B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B864-00A8-436B-AF64-FC915EAA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A9EB-3DC2-4A86-BE77-0C890D7E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5F9B-2A5D-48A8-AAB3-8913152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72E-E325-4165-ABFD-E4AF1A0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E79F-AA0B-4E8E-A12E-FBCA6E6A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E43E-C6FA-4404-A214-6AFB7CB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0FDA-ADA7-4DF9-9C32-6DA1FA0F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1CB8-84E8-46C8-9A51-156E023C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ED97-4205-4DD5-86CF-FA4014C1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6414-D871-4BEE-8EBB-469122F6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F5A6-07F8-45AD-B76B-07228C24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B9C3-4245-4AAB-B06D-42415B8B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F4BA-BA75-4BDE-BC84-300D570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2188-44D8-4269-AA07-5440A76B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5E6-235D-496E-A1F6-15419A5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A560-23DE-4276-86AD-0342B462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72DB-B512-44BD-AF1C-3FF8EDF1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3AE0-BD15-4C4C-96DA-FD64B58B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0C3E-CF77-4FDB-80CD-496B77FE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A6F2-0FD7-4C14-A8CD-495B195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59BDD-ACDA-4382-B5E1-D04D0109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55A0-7DE1-44FB-8C8C-498C404F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C368-87DC-45B1-B980-AC7420EF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6C3DC-59F3-4BB8-B6A2-599D375F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9AD5-8B49-4D3C-88C4-6FD9E61D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059-849F-4377-BD5B-DA2351A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774B-43D3-401B-AD63-B391E8A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CF60-D913-43E5-83FC-F25B9BD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85E43-DDD7-4A33-9DAE-9F425D01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35B7-8B6B-4B96-BF14-9C496FB2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00C0-F599-4C8C-B513-4CAC2E29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9F167-345A-4CAF-9376-1A29BC7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6919-9F84-4FB6-B462-76C96364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C167F-1742-4C59-8405-5ACAFC7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71DB-A549-40B4-96AF-3E58BB87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D0FEA-C68D-4797-978B-67252F63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D48-0B9D-4C9B-ADA4-4B1A6EBC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E682-D404-41D0-ACE2-8EF1354A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4E5DC-D6AD-47B2-8ABF-80179F92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C67FA-56DC-4137-8386-A6EC245E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73D1-313B-4EE4-A83B-1D73D966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B8764-5E3E-49C0-9D3D-F0D0602D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8939-C55E-4F08-838A-BF50C3B2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9FFE6-056D-4E92-A971-64C6744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3CF10-2C1B-45EA-958F-C62037E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487F1-6F0E-4E06-BF29-323D1ED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8702-57EF-4539-8404-208C927C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BB7-AFA1-47F6-B50B-B2708C6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21D58-64B9-4E77-9119-D30BD06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EB5DA-BDC3-48AB-B7A6-F9857BCB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1D94F-3FCE-4C2B-BBCA-C8C6FADA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4BB0-2E7E-4026-907F-F397D207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8736-FA23-4027-A3DE-F23C9679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CA4B-19BD-44B1-82C8-A109E398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8BD91-548F-4DA3-9B68-3EF3E946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ACD4-2ADC-4561-8DBC-474D6716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A2D2A-B859-435D-B4E0-076169EA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6B065-DC4E-4AA9-BB68-65F9ABB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1AD-1F0B-4CF9-A160-C6977717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9D486-B4BD-4FF8-B79D-59CB4A9C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E7DB-9251-4153-BDD5-8EB52686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C7A1B-0E92-44C5-99F5-CE3D1CE6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6D192-FE77-4C30-AE40-7445FEE2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FF20-1CCD-4977-8981-B3FD3B2A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A92B1-9A66-4CE3-9BE9-EA5F943F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6AA4-126A-4A53-A632-BE569A6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EEE4-70FC-4905-A3BF-843986F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8F881-288A-483F-AFBD-3D5183E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65826-9459-4E77-847A-DD743ADD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FF2-5E85-4931-A1C6-78E8D4F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4D5E2-AC66-4ADE-91EF-DFE6CF5C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01668-0D76-4EA3-A9BD-0D18556F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6F01-2EBA-4B04-B2C1-E21886A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F6F9-6933-4BBF-940F-BAB0954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849E2-6D48-491D-ABAE-A26E724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78A01-9F1E-4A81-9FE3-9FA76DC2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DDA0-5239-4092-BC7A-B578FF4A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FACA4-C8E2-410B-8B40-CCDF423A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1EC69-CE6C-447D-9B05-86790A72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8A3B8-4472-436A-A8FE-F06DE9FE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B32-2F22-4370-BABD-F0D62526F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AEDD-DCED-4C3D-A6B2-4E92D507C5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244E-7218-4D86-983B-F7F2761D7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FE3-3406-4405-9480-B34BBD7D5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9F9-3E73-4C63-B0FE-E4283C3B1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F14-0CD5-4C9D-B645-05480F751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FC9-17A9-4176-90F7-86DB03106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18E-3E10-48E9-9243-06EF88F69C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C55-622C-49E4-8918-5592BB096F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ADEA-319C-407D-A134-B0D988368C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15DD-CC1D-4BAB-A8F6-02B87CE3E8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CE5F-4EA1-4C77-82E1-2A6AE3DC1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724-73E4-4EAF-BADC-A9C21F15B2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A987-37BC-4B94-87B3-5171A061C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93EF-9157-4168-96A4-A5B6D2222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7BBF-5BB7-4CD2-A0B8-00C8BDDA5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FA67-3956-40C7-8B20-2B3C23F65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C37E-1B47-4C11-84CC-E433CFFE5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E0BE-2748-4F98-8D3B-B4D54E395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397F-FDB9-4837-8657-57ACF62D5A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CF7-397B-49C1-9A7E-2789EECB8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2F55-4BE3-49F9-8684-235AD9632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86C5-0D56-4746-B4D5-33F74DBB8D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96CD-4222-402D-BB6D-04674741C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0986-7AD4-460C-9D3D-6ABC0C0E0B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0D35-AA52-4A26-AA46-5AEED253B7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39E0-0AFE-45AB-AFD3-579503BF67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6385-33F6-4118-BEFF-12A1D90B8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E23A-A76A-4748-A992-CCCCB4AAE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0EEE-7337-4F93-A3A4-22298F4CF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6EE2-19D1-4F01-9565-5CE90ECD62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46A6-E72B-4221-BEAE-91AF08245C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74F-123E-4382-A4D8-2BE474714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8E56-CBB8-46CC-9BF3-810AE26B50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E47B-1FC8-4348-9909-46BAEA012B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4F1C-81E9-4471-B248-5447AFF7AD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9CF6-46C1-4039-A416-E1C774674D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D2E8-6A36-4D57-ABE2-9556CC4B0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86A8-216A-472C-AEFC-EF5A9DF7D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0478-D991-497A-9B85-A03580CCA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500200" y="2428920"/>
            <a:ext cx="4076640" cy="609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286000" y="3571920"/>
            <a:ext cx="45054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1"/>
          <a:stretch/>
        </p:blipFill>
        <p:spPr>
          <a:xfrm>
            <a:off x="352440" y="1071720"/>
            <a:ext cx="8439120" cy="47145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285840" y="44434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3"/>
          <a:stretch/>
        </p:blipFill>
        <p:spPr>
          <a:xfrm>
            <a:off x="285840" y="491184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4"/>
          <a:stretch/>
        </p:blipFill>
        <p:spPr>
          <a:xfrm>
            <a:off x="285840" y="540072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39120" cy="52196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2"/>
          <a:stretch/>
        </p:blipFill>
        <p:spPr>
          <a:xfrm>
            <a:off x="285840" y="2560680"/>
            <a:ext cx="8786880" cy="1276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3"/>
          <a:stretch/>
        </p:blipFill>
        <p:spPr>
          <a:xfrm>
            <a:off x="285840" y="392904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381800" cy="4838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285840" y="177480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285840" y="2274840"/>
            <a:ext cx="8786880" cy="2433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285840" y="482112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285840" y="5357880"/>
            <a:ext cx="87868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395280" y="1790640"/>
            <a:ext cx="8353440" cy="3276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2"/>
          <a:stretch/>
        </p:blipFill>
        <p:spPr>
          <a:xfrm>
            <a:off x="285840" y="273384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3"/>
          <a:stretch/>
        </p:blipFill>
        <p:spPr>
          <a:xfrm>
            <a:off x="285840" y="321480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4"/>
          <a:stretch/>
        </p:blipFill>
        <p:spPr>
          <a:xfrm>
            <a:off x="285840" y="368316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5"/>
          <a:stretch/>
        </p:blipFill>
        <p:spPr>
          <a:xfrm>
            <a:off x="285840" y="41353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6"/>
          <a:stretch/>
        </p:blipFill>
        <p:spPr>
          <a:xfrm>
            <a:off x="285840" y="462600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380880" y="1095480"/>
            <a:ext cx="8382240" cy="4667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285840" y="3968640"/>
            <a:ext cx="8786880" cy="8128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285840" y="484992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85840" y="528948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285840" y="861840"/>
            <a:ext cx="8439120" cy="4496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2"/>
          <a:stretch/>
        </p:blipFill>
        <p:spPr>
          <a:xfrm>
            <a:off x="237960" y="5643720"/>
            <a:ext cx="8477280" cy="885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285840" y="2825640"/>
            <a:ext cx="8786880" cy="716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4"/>
          <a:stretch/>
        </p:blipFill>
        <p:spPr>
          <a:xfrm>
            <a:off x="285840" y="3681360"/>
            <a:ext cx="8786880" cy="743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5"/>
          <a:stretch/>
        </p:blipFill>
        <p:spPr>
          <a:xfrm>
            <a:off x="285840" y="4572000"/>
            <a:ext cx="8786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43920" cy="5610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285840" y="1447920"/>
            <a:ext cx="4786200" cy="374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285840" y="192888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285840" y="236844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285840" y="2836800"/>
            <a:ext cx="4786200" cy="374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285840" y="3346560"/>
            <a:ext cx="4786200" cy="1341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7"/>
          <a:stretch/>
        </p:blipFill>
        <p:spPr>
          <a:xfrm>
            <a:off x="285840" y="4786200"/>
            <a:ext cx="8786880" cy="12463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8"/>
          <a:stretch/>
        </p:blipFill>
        <p:spPr>
          <a:xfrm>
            <a:off x="285840" y="6118200"/>
            <a:ext cx="878688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333360" y="905040"/>
            <a:ext cx="8477280" cy="5667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2"/>
          <a:stretch/>
        </p:blipFill>
        <p:spPr>
          <a:xfrm>
            <a:off x="285840" y="377496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285840" y="420696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4"/>
          <a:stretch/>
        </p:blipFill>
        <p:spPr>
          <a:xfrm>
            <a:off x="285840" y="470700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5"/>
          <a:stretch/>
        </p:blipFill>
        <p:spPr>
          <a:xfrm>
            <a:off x="285840" y="5135400"/>
            <a:ext cx="5357880" cy="3765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6"/>
          <a:stretch/>
        </p:blipFill>
        <p:spPr>
          <a:xfrm>
            <a:off x="285840" y="5635800"/>
            <a:ext cx="5357880" cy="3762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7"/>
          <a:stretch/>
        </p:blipFill>
        <p:spPr>
          <a:xfrm>
            <a:off x="285840" y="6095880"/>
            <a:ext cx="878688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642960" y="1000080"/>
            <a:ext cx="8067600" cy="33148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3"/>
          <a:stretch/>
        </p:blipFill>
        <p:spPr>
          <a:xfrm>
            <a:off x="285840" y="147960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4"/>
          <a:stretch/>
        </p:blipFill>
        <p:spPr>
          <a:xfrm>
            <a:off x="285840" y="1928880"/>
            <a:ext cx="8786880" cy="374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5"/>
          <a:stretch/>
        </p:blipFill>
        <p:spPr>
          <a:xfrm>
            <a:off x="285840" y="241776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6"/>
          <a:stretch/>
        </p:blipFill>
        <p:spPr>
          <a:xfrm>
            <a:off x="285840" y="2857680"/>
            <a:ext cx="8786880" cy="374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7"/>
          <a:stretch/>
        </p:blipFill>
        <p:spPr>
          <a:xfrm>
            <a:off x="285840" y="3346560"/>
            <a:ext cx="8786880" cy="3762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8"/>
          <a:stretch/>
        </p:blipFill>
        <p:spPr>
          <a:xfrm>
            <a:off x="285840" y="3846600"/>
            <a:ext cx="87868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33:04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